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5936-2B35-4333-914A-6053B3195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0DC9-2EB8-4508-AE90-6479FA42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B6DE-B9B2-46FF-822C-31673D3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E1EC-34E3-47A7-AC43-DF3E3653E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A74-7C1E-4D45-BC94-E371FD052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D63-54C6-446F-ABD1-B377672132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337-0057-4754-BB2D-8A307E2A9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0EC-BE8E-473E-894A-267C0F4A1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040-F56A-49C2-832B-EC50773450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228-1657-4821-8C64-D2F96C7883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679-3B44-4E65-84AE-25F7581541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6E56-945A-4FAF-82FD-A0338E8F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8F6-1C1E-42BD-80D8-8B172E3189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606-41AB-4F3C-A3BA-A767B86EBA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6A1-0F3F-493E-B0A7-944C6D743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908-3077-45CC-A9EB-A032C4BE9F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9EB-A8A2-4925-8AB4-0250A8108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6C9B-7E89-40A5-938A-DDB0E84E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3356-30E8-4D2A-BF05-F9B5CB20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51CE-2386-422D-A2D9-0F4617E4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A838-F5C7-45A6-85EE-E9B5F000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37BE-CD6D-4CEC-8F31-E8F32E9A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39AD-53C3-4F06-8D46-3AB55D0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C585-1541-4286-9DC6-61A4F10E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B047781A-DBA0-47D6-B8B8-667F6780AED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FE60891-8D2C-4721-93F5-833D5A2E7FC3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RT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3357 (Hole size, duration and d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MDI DF &amp; L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Jitte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Loss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out of sequence packets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Transport Stream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Transport Stream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-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ansport Stream &amp; Program Statis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I Delay Factor &amp; Lost Rate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 &amp; PMT Rate, Errors, etc. (PSI)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Rate, Errors, etc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urious Packet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 Byte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Transport Stream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-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ID statistics)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 values are per P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Packet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Dropo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Real-time Video and A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PES Video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PES Video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OS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Pattern (length, matches, misma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tatistics (Throughput (Min, Max &amp; Avg.), Loss, etc) for I, B and P frame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Video in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Video Control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Video Control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 (STB’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TV ICC and IPTV Zap response time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, Max and Avg. for Failed Joins, Leav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Active IGM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Active IGM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following measurement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, Joins, Failed Joins, Leaves, Group-Specific Queries, Unanswered Queries, Zap Time and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Why Carries are moving to  </a:t>
            </a:r>
            <a:br>
              <a:rPr sz="2400"/>
            </a:b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riple Play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are Demanding it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nnels are being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ervices (On-Line Gaming, TV email, VOD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dling costs (Benefit for customers and carri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e to be first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events only on IP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ddition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Network Vitals Statistic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8720" y="1266840"/>
            <a:ext cx="74833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Network Vitals Statistic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specific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 Packets, Broadcasts Throughput, Multicast Throughput, TT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DSL at the h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est gear for Triple play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PTV is not stable (MST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op Boxes are under 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 modem (Residential Gateways) are under 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 of 24x7 up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mt. Systems are needed for the E2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Challenges the ‘Providers’ face</a:t>
            </a:r>
            <a:br>
              <a:rPr sz="2400"/>
            </a:b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Transport Strea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96080" y="76320"/>
            <a:ext cx="1287720" cy="865080"/>
            <a:chOff x="7696080" y="76320"/>
            <a:chExt cx="1287720" cy="865080"/>
          </a:xfrm>
        </p:grpSpPr>
        <p:sp>
          <p:nvSpPr>
            <p:cNvPr id="92" name="Gear"/>
            <p:cNvSpPr/>
            <p:nvPr/>
          </p:nvSpPr>
          <p:spPr>
            <a:xfrm>
              <a:off x="8409960" y="76320"/>
              <a:ext cx="573840" cy="396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96080" y="239760"/>
              <a:ext cx="686160" cy="474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41040" y="414720"/>
              <a:ext cx="762480" cy="526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868400" y="420840"/>
            <a:ext cx="3924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3" marL="1230480" algn="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6aac"/>
                </a:solidFill>
                <a:latin typeface="Agilent TT Cond"/>
              </a:rPr>
              <a:t>How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47920" y="4572000"/>
            <a:ext cx="5746680" cy="1387440"/>
            <a:chOff x="1447920" y="4572000"/>
            <a:chExt cx="5746680" cy="138744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8844" r="0" b="8844"/>
            <a:stretch/>
          </p:blipFill>
          <p:spPr>
            <a:xfrm>
              <a:off x="1462320" y="4954680"/>
              <a:ext cx="57322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47920" y="4572000"/>
              <a:ext cx="0" cy="1387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2120" y="3962520"/>
            <a:ext cx="731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ximum of seven MPEG packets packed into a single UDP or RTP packet per RFC2250. RFC2733 or CoP3 define the RTP payload format to allow forward error correcting of real-time med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gure 4"/>
          <p:cNvPicPr/>
          <p:nvPr/>
        </p:nvPicPr>
        <p:blipFill>
          <a:blip r:embed="rId2"/>
          <a:stretch/>
        </p:blipFill>
        <p:spPr>
          <a:xfrm>
            <a:off x="304920" y="91440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Figure 3"/>
          <p:cNvPicPr/>
          <p:nvPr/>
        </p:nvPicPr>
        <p:blipFill>
          <a:blip r:embed="rId3"/>
          <a:stretch/>
        </p:blipFill>
        <p:spPr>
          <a:xfrm>
            <a:off x="3657600" y="1066680"/>
            <a:ext cx="4762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, Video and Data all in on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End\Back End Design (GUI and MySQL backend Data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Net Licen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 for all three services are done simultaneous in one instance of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modes to run from: DNA via Multi-user Server, NIC and Post Process (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Triple Play Statistics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Triple Play Statistics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Voice, Video and Data measurement results all in on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otocol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Dash Board” Meas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oice &amp; Video Highlights (RT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oice Highlights (RT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Facto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loa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Measurements (Min, Max and Avg.  for Packet count, Byte count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Packets (Total, 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 output for the VOIP call (listen to the active c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14:34Z</dcterms:created>
  <dc:creator>Michael Stevens</dc:creator>
  <dc:description/>
  <dc:language>en-US</dc:language>
  <cp:lastModifiedBy>Michael Stevens</cp:lastModifiedBy>
  <dcterms:modified xsi:type="dcterms:W3CDTF">2007-05-31T00:18:49Z</dcterms:modified>
  <cp:revision>14</cp:revision>
  <dc:subject/>
  <dc:title>Slide 1</dc:title>
</cp:coreProperties>
</file>